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26.jpeg" ContentType="image/jpeg"/>
  <Override PartName="/ppt/media/image5.jpeg" ContentType="image/jpeg"/>
  <Override PartName="/ppt/media/image9.png" ContentType="image/png"/>
  <Override PartName="/ppt/media/image8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7.jpeg" ContentType="image/jpe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324D-FA4F-4B71-9F47-A10C03792C5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356A-B289-4015-BB4F-EBB1034B9A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BAE0-9479-4BEE-9D3F-A254D515130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06A-5DEB-4E96-B7DA-245F60F5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8A3-7C9D-451C-B5B7-71A6D5C8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78B-791E-4042-AB2B-E700A120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6BD-6827-4301-B966-6DD1FE15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4DA7-639A-431A-AF8C-587A322A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13BB-F6AB-41AC-95E4-7C48FDE9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CEA1-5CD6-4CE5-A29D-EAF9225F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92EB-C7F7-471B-AD57-038466AC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902-AB47-4B7C-9F78-01EC3F3E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198E-365C-4C54-BCB0-D7095785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1BF5-925A-4BDD-A33D-C7BE197C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F58-F209-4A82-B0E7-F0F96220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5A4B-8752-497A-BAE7-FB03903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E350-EE78-4B18-8BF8-BD7CD879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B30A-3B8C-49EE-A2B0-A5A174C7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7CE-13BC-4FC9-8EA1-69EB2A7A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BAD2-F037-4B36-B2D8-7C33BC23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211D-1352-44D7-9A81-E265B388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A73-E2CC-4ABA-94AA-047925E2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09C0-A94B-4B7D-945C-C7C2173F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394-0EA9-4765-9AC7-3133ACE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A0C-50D2-4DC1-A821-7BC4CDD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568-800F-4087-8F2D-E55E2E34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1D2F-7478-4167-B16A-91E8A77A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AFB1-C2F1-417A-A785-0C1C38FC4E0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95F-9343-4190-B44F-2061A0A19F7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google.pl/url?sa=i&amp;rct=j&amp;q=senat+usa&amp;source=images&amp;cd=&amp;cad=rja&amp;docid=15OrB6_lmM1KvM&amp;tbnid=hOVRUKdRWh4p-M:&amp;ved=0CAUQjRw&amp;url=http://www.telegraph.co.uk/finance/financialcrisis/3119580/Financial-crisis-US-Senate-passes-700bn-bank-bail-out.html&amp;ei=RJtgUcvTMoiitAbl-4CQAg&amp;bvm=bv.44770516,d.bGE&amp;psig=AFQjCNE7beSaSQgGEQOnRcOobykUVVjsHw&amp;ust=1365372086324113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google.pl/url?sa=i&amp;rct=j&amp;q=konstytucja+usa&amp;source=images&amp;cd=&amp;cad=rja&amp;docid=XseMvENb8LxgnM&amp;tbnid=u91T_dlfqb2ZwM:&amp;ved=0CAUQjRw&amp;url=http://stosunki.pl/?q=content/ameryka&#324;ski-prezydent-&#322;amie-konstytucj&#281;&amp;ei=5ZtgUaTQC8KstAaYs4H4Ag&amp;bvm=bv.44770516,d.bGE&amp;psig=AFQjCNHmjKCuu4jz-G2pCn71tmyoYnYtMg&amp;ust=1365372218396788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llposters.com/-sp/Revolutionary-Text-Unite-Indivisibilite-de-La-Republic-Liberte-Egalite-Fraternite-Ou-La-Morte-Posters_i3829168_.htm" TargetMode="External"/><Relationship Id="rId2" Type="http://schemas.openxmlformats.org/officeDocument/2006/relationships/hyperlink" Target="http://pl.123rf.com/photo_5090653_deklaracja-niepodleglosci-stanow-zjednoczonych-z-flaga-w-tle.html" TargetMode="External"/><Relationship Id="rId3" Type="http://schemas.openxmlformats.org/officeDocument/2006/relationships/hyperlink" Target="http://www.telegraph.co.uk/finance/financialcrisis/3119580/Financial-crisis-US-Senate-passes-700bn-bank-bail-out.html" TargetMode="External"/><Relationship Id="rId4" Type="http://schemas.openxmlformats.org/officeDocument/2006/relationships/hyperlink" Target="http://stosunki.pl/?q=content/ameryka&#324;ski-prezydent-&#322;amie-konstytucj&#281;" TargetMode="External"/><Relationship Id="rId5" Type="http://schemas.openxmlformats.org/officeDocument/2006/relationships/hyperlink" Target="http://grecja.home.pl/ateny/ateny_gal2.htm" TargetMode="External"/><Relationship Id="rId6" Type="http://schemas.openxmlformats.org/officeDocument/2006/relationships/hyperlink" Target="http://www.polskieradio.pl/5/3/Artykul/724081" TargetMode="External"/><Relationship Id="rId7" Type="http://schemas.openxmlformats.org/officeDocument/2006/relationships/hyperlink" Target="http://www.memo.fr/en/article.aspx?ID=JJR_000" TargetMode="External"/><Relationship Id="rId8" Type="http://schemas.openxmlformats.org/officeDocument/2006/relationships/hyperlink" Target="http://www.memo.fr/en/article.aspx?ID=JJR_000" TargetMode="External"/><Relationship Id="rId9" Type="http://schemas.openxmlformats.org/officeDocument/2006/relationships/hyperlink" Target="http://nothingam.blog.onet.pl/2009/07/19/004/" TargetMode="External"/><Relationship Id="rId10" Type="http://schemas.openxmlformats.org/officeDocument/2006/relationships/hyperlink" Target="http://nothingam.blog.onet.pl/2009/07/19/004/" TargetMode="External"/><Relationship Id="rId11" Type="http://schemas.openxmlformats.org/officeDocument/2006/relationships/hyperlink" Target="http://www.klaka.freehost.pl/sredniowiecze/grafika/drabina.jpg" TargetMode="External"/><Relationship Id="rId12" Type="http://schemas.openxmlformats.org/officeDocument/2006/relationships/hyperlink" Target="http://www.klaka.freehost.pl/sredniowiecze/grafika/drabina.jpg" TargetMode="External"/><Relationship Id="rId13" Type="http://schemas.openxmlformats.org/officeDocument/2006/relationships/hyperlink" Target="http://bochenskie.republika.pl/najstarsza_bochnia.html" TargetMode="External"/><Relationship Id="rId14" Type="http://schemas.openxmlformats.org/officeDocument/2006/relationships/hyperlink" Target="http://bochenskie.republika.pl/najstarsza_bochnia.html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ff0000"/>
                </a:solidFill>
                <a:latin typeface="Calibri"/>
              </a:rPr>
              <a:t>Być obywatelem! czy zawsze to samo znaczyło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Izabella Lankos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23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XVIII wiek – epoka oświecenia – rozwój praw obywatelskich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97000"/>
            <a:ext cx="411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lozofia polityczna Monteskiusza, J.J. Rousseau, J. Loc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wolucja francuska 1789-17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eklaracja niepodległości USA i powstanie USA 177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uropa Napoleo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http://bi.gazeta.pl/im/7/7180/z7180287Q.jpg"/>
          <p:cNvPicPr/>
          <p:nvPr/>
        </p:nvPicPr>
        <p:blipFill>
          <a:blip r:embed="rId1"/>
          <a:stretch/>
        </p:blipFill>
        <p:spPr>
          <a:xfrm>
            <a:off x="4427640" y="1197000"/>
            <a:ext cx="4546440" cy="302256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1"/>
          <p:cNvSpPr/>
          <p:nvPr/>
        </p:nvSpPr>
        <p:spPr>
          <a:xfrm>
            <a:off x="5003640" y="41893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ot. Lylho/Leemage smierć Ludwika XV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John Lock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836280"/>
            <a:ext cx="540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y obywatel posiada pewne podstawowe, prawa, o ile jest lojalny w stosunku do swojego państwa (ale 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zą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!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elem państwa jest dobro obywateli, ochrona ich praw i wolności. Na mocy kontraktu społecznego zawartego pomiędzy narodem a rządem, obywatelom przysługuje wolność myśli, własnych przekonań, wyrażania ich, organizowania się, pracy, kupowania i sprzedawania, oraz swobodnego wybierania rządu i zmieniania go (a nawet usuwania – rewolucja) –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cepcja umowy społeczn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ówność wszystkich obywateli wobec prawa – nawiązanie do filozofii stoicki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lność jako podstawowe prawo każdego człowie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o do własności każdego obywat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John Locke"/>
          <p:cNvPicPr/>
          <p:nvPr/>
        </p:nvPicPr>
        <p:blipFill>
          <a:blip r:embed="rId1"/>
          <a:stretch/>
        </p:blipFill>
        <p:spPr>
          <a:xfrm>
            <a:off x="6804000" y="404640"/>
            <a:ext cx="17715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www.bibliotekakp.pl/Umowa_o_zabezpieczeniu_spolecznym_miedzy_Rzadem_RP_a_Australia,279,800,600,.jpg"/>
          <p:cNvPicPr/>
          <p:nvPr/>
        </p:nvPicPr>
        <p:blipFill>
          <a:blip r:embed="rId2"/>
          <a:stretch/>
        </p:blipFill>
        <p:spPr>
          <a:xfrm>
            <a:off x="5940360" y="2700360"/>
            <a:ext cx="29005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ymbol zastępczy zawartości 3" descr=""/>
          <p:cNvPicPr/>
          <p:nvPr/>
        </p:nvPicPr>
        <p:blipFill>
          <a:blip r:embed="rId1"/>
          <a:stretch/>
        </p:blipFill>
        <p:spPr>
          <a:xfrm>
            <a:off x="12600" y="901800"/>
            <a:ext cx="879660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lozofia polityczna oświecen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560" y="1196640"/>
            <a:ext cx="4537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świecenie to prąd umysłowy, który rozwijał się w Europie pod koniec XVII i przez cały XVIII wiek i obejmował zarówno filozofię, sztukę, literaturę i muzykę, jak i teorie społeczne, kulturowe, językowe i polityczn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świecenie pragnęło wyjść poza ograniczenia epoki i postrzegać świat, w tym również rolę obywateli i znaczenie obywatelstwa, inaczej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dno z podstawowych przekonań epoki Oświecenia zakłada, że nic nie jest dane lub określone z góry, a wszechświat jest zasadniczo racjonalny, co oznacza, że może być pojmowany wyłącznie za pomocą rozumu i że można go kontrolować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uwerenność lud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memo.fr/Media/JJR_000.jpg"/>
          <p:cNvPicPr/>
          <p:nvPr/>
        </p:nvPicPr>
        <p:blipFill>
          <a:blip r:embed="rId1"/>
          <a:stretch/>
        </p:blipFill>
        <p:spPr>
          <a:xfrm>
            <a:off x="5364000" y="1052640"/>
            <a:ext cx="34545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olność, Równość, Braterstw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640" y="1483920"/>
            <a:ext cx="5343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ałalność klubów politycznych w czasie rewolucji np. Jakobi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stytucja francuska – wprowadzenie trójpodziału władzy i możliwości głosowania przez obywateli – cenzus majątk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prowadzen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Revolutionary Text "/>
          <p:cNvPicPr/>
          <p:nvPr/>
        </p:nvPicPr>
        <p:blipFill>
          <a:blip r:embed="rId1"/>
          <a:stretch/>
        </p:blipFill>
        <p:spPr>
          <a:xfrm>
            <a:off x="5667480" y="331920"/>
            <a:ext cx="3476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eklaracja praw człowieka i obywatel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79280" y="1454040"/>
            <a:ext cx="4176720" cy="525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://www.e-kolekcjoner.pl/files/10-zlotych-deklaracja-praw-czlowieka%5b2%5d.jpg"/>
          <p:cNvPicPr/>
          <p:nvPr/>
        </p:nvPicPr>
        <p:blipFill>
          <a:blip r:embed="rId2"/>
          <a:stretch/>
        </p:blipFill>
        <p:spPr>
          <a:xfrm>
            <a:off x="5076720" y="1427040"/>
            <a:ext cx="3743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tany zjednoczo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23640" y="1267920"/>
            <a:ext cx="47941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eklaracja niepodległośc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g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n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Deklaracja Niepodległości Stanów Zjednoczonych z flagą w tle Zdjęcie Seryjne - 5090653"/>
          <p:cNvPicPr/>
          <p:nvPr/>
        </p:nvPicPr>
        <p:blipFill>
          <a:blip r:embed="rId1"/>
          <a:stretch/>
        </p:blipFill>
        <p:spPr>
          <a:xfrm>
            <a:off x="5118120" y="33336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i.telegraph.co.uk/multimedia/archive/01002/capitol-hill-senat_1002366c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3645000"/>
            <a:ext cx="438156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ttp://stosunki.pl/sites/default/files/REGIONY/Ameryka_Pln/Obama_Libia_Konstytucja_0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18120" y="3213000"/>
            <a:ext cx="37195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wie koncepcje obywatelstwa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XIX wiek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Diagram 3" descr=""/>
          <p:cNvPicPr/>
          <p:nvPr/>
        </p:nvPicPr>
        <p:blipFill>
          <a:blip r:embed="rId1"/>
          <a:stretch/>
        </p:blipFill>
        <p:spPr>
          <a:xfrm>
            <a:off x="231840" y="1536840"/>
            <a:ext cx="85946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iek XI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267920"/>
            <a:ext cx="4691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stytucyjna gwarancja praw i wolności obywatelski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szerzenie praw obywatelskich politycznych – prawa wyborc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http://www.szkolnictwo.pl/rysunki_lekcje/2510/3409_139_4.png"/>
          <p:cNvPicPr/>
          <p:nvPr/>
        </p:nvPicPr>
        <p:blipFill>
          <a:blip r:embed="rId1"/>
          <a:stretch/>
        </p:blipFill>
        <p:spPr>
          <a:xfrm>
            <a:off x="5148360" y="1197000"/>
            <a:ext cx="3809880" cy="212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www.wszpwn.com.pl/uploads/640x480/5/b4827a39_wiosna_ludow_1848_1849.gif"/>
          <p:cNvPicPr/>
          <p:nvPr/>
        </p:nvPicPr>
        <p:blipFill>
          <a:blip r:embed="rId2"/>
          <a:stretch/>
        </p:blipFill>
        <p:spPr>
          <a:xfrm>
            <a:off x="5300640" y="3429000"/>
            <a:ext cx="34923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ograf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7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"/>
              </a:rPr>
              <a:t>http://www.allposters.com/-sp/Revolutionary-Text-Unite-Indivisibilite-de-La-Republic-Liberte-Egalite-Fraternite-Ou-La-Morte-Posters_i3829168_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2"/>
              </a:rPr>
              <a:t>http://pl.123rf.com/photo_5090653_deklaracja-niepodleglosci-stanow-zjednoczonych-z-flaga-w-tl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3"/>
              </a:rPr>
              <a:t>http://www.telegraph.co.uk/finance/financialcrisis/3119580/Financial-crisis-US-Senate-passes-700bn-bank-bail-out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4"/>
              </a:rPr>
              <a:t>http://stosunki.pl/?q=content/ameryka%C5%84ski-prezydent-%C5%82amie-konstytucj%C4%9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5"/>
              </a:rPr>
              <a:t>http://grecja.home.pl/ateny/ateny_gal2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6"/>
              </a:rPr>
              <a:t>http://www.polskieradio.pl/5/3/Artykul/724081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8"/>
              </a:rPr>
              <a:t>www.memo.fr/en/article.aspx?ID=JJR_0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9"/>
              </a:rPr>
              <a:t>http://nothingam.blog.onet.pl/2009/07/19/004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0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2"/>
              </a:rPr>
              <a:t>www.klaka.freehost.pl/sredniowiecze/grafika/drabina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pl-PL" sz="2000" spc="-1" strike="noStrike" u="sng">
                <a:solidFill>
                  <a:srgbClr val="ffde66"/>
                </a:solidFill>
                <a:uFillTx/>
                <a:latin typeface="Calibri"/>
                <a:hlinkClick r:id="rId14"/>
              </a:rPr>
              <a:t>bochenskie.republika.pl/najstarsza_bochnia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romanum.historicus.pl/ubior_rzymian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7280" y="274680"/>
            <a:ext cx="42591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ten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9280" y="620280"/>
            <a:ext cx="4942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bywatel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” to inaczej „istota polityczna”, a więc człowiek, który posiada prawa obywatelski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bywatel to pełnoletni mężczyzna , który  urodził się  z ojca Ateńczyka i matki Atenk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Do praw politycznych należał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głosu na zgromadzenia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ział w wyborze członków władz (mniejszy w oligarchiach, większy w demokracjach – nazywamy to czynnym prawem wyborczym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ógł być  wybierany  do władz (w demokracjach – to tzw. bierne prawo wyborcz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dział w sądach i ochrona prawna (najczęściej zakaz skazywania na kary hańbiąc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diet podczas sprawowania urzędów lub głosowa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pełnego udziału w kulcie religijnym i życiu kulturalnym oraz do darmowych poczęstunków z tym związany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awo do opieki państwa (np. wykupu z niewoli w przypadku dostania się do niej na wojnie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http://grecja.home.pl/ateny/athensfromabove2.jpg"/>
          <p:cNvPicPr/>
          <p:nvPr/>
        </p:nvPicPr>
        <p:blipFill>
          <a:blip r:embed="rId1"/>
          <a:stretch/>
        </p:blipFill>
        <p:spPr>
          <a:xfrm>
            <a:off x="5121360" y="1628640"/>
            <a:ext cx="39956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pl.wikipedia.org/wiki/Szlachta_w_Pols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e-kolekcjoner.pl/766,10-zlotych-deklaracja-praw-czlowiek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ww.szkolnictwo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feudalizm.prv.pl/spoleczenstwofeudalne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emito.net/turystyka/inne_ciekawe_obiekty/468448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http://ecsmedia.pl/c/1349275345816-1497121678-jpg-smyk.gallery.big-iext12800085.jpg"/>
          <p:cNvPicPr/>
          <p:nvPr/>
        </p:nvPicPr>
        <p:blipFill>
          <a:blip r:embed="rId1"/>
          <a:stretch/>
        </p:blipFill>
        <p:spPr>
          <a:xfrm>
            <a:off x="5796000" y="112536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www.mydwoje.pl/_img/_pictures/590.jpg"/>
          <p:cNvPicPr/>
          <p:nvPr/>
        </p:nvPicPr>
        <p:blipFill>
          <a:blip r:embed="rId2"/>
          <a:stretch/>
        </p:blipFill>
        <p:spPr>
          <a:xfrm>
            <a:off x="826920" y="321300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920" y="476280"/>
            <a:ext cx="54723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ives Romanu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– obywatel rzymski – miał prawa zależne od urodzenia w odpowiedniej klasie społecznej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sługiwało dzieciom obywateli rzymskich (wystarczył ojciec Rzymianin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rzeciwieństwie do Grecji, udział w życiu publicznym był nieobowiązkowy, choć dobrze widzi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wością było nadawanie obywatelstwa całym miastom, z czasem obszarom (Italia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dykt Karakali – obywatelstwo dla wszystkich mieszkańców impe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http://upload.wikimedia.org/wikipedia/commons/thumb/3/32/Campitelli_-_031225-TempioDiSaturnoSiAccendonoLeLuci3.jpg/300px-Campitelli_-_031225-TempioDiSaturnoSiAccendonoLeLuci3.jpg"/>
          <p:cNvPicPr/>
          <p:nvPr/>
        </p:nvPicPr>
        <p:blipFill>
          <a:blip r:embed="rId1"/>
          <a:stretch/>
        </p:blipFill>
        <p:spPr>
          <a:xfrm>
            <a:off x="6084720" y="404640"/>
            <a:ext cx="2857680" cy="2143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http://romanum.historicus.pl/Zdj/clothingdiagram.jpg"/>
          <p:cNvPicPr/>
          <p:nvPr/>
        </p:nvPicPr>
        <p:blipFill>
          <a:blip r:embed="rId2"/>
          <a:stretch/>
        </p:blipFill>
        <p:spPr>
          <a:xfrm>
            <a:off x="5622840" y="2781360"/>
            <a:ext cx="34243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redniowieczny model obywatel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268280"/>
            <a:ext cx="4475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feudalnym średniowieczu, gdy tylko nieliczni uprawnieni byli do rządzenia ogromną większością, pojęcie „obywatelstwa” oraz koncepcje i filozoficzne leżące u jego podłoża właściwie zanikły na kontynencie europejsk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Średniowiecze to epoka teocentryzmu, według którego najważniejsza rolę odgrywały sprawy boskie i to według boskiego porządku było zorganizowane społeczeństw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żda grupa społeczna miała swoje miejsce i obowiązki do wykona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651640" y="1125360"/>
            <a:ext cx="3217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feud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468360" y="1538280"/>
            <a:ext cx="601020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śńtwo stan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611280" y="1525680"/>
            <a:ext cx="2952720" cy="3956040"/>
          </a:xfrm>
          <a:prstGeom prst="rect">
            <a:avLst/>
          </a:prstGeom>
          <a:ln w="0">
            <a:noFill/>
          </a:ln>
        </p:spPr>
      </p:pic>
      <p:sp>
        <p:nvSpPr>
          <p:cNvPr id="110" name="pole tekstowe 3"/>
          <p:cNvSpPr/>
          <p:nvPr/>
        </p:nvSpPr>
        <p:spPr>
          <a:xfrm>
            <a:off x="3708360" y="1525680"/>
            <a:ext cx="482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uchowień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modlący si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Rycerstwo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broniących, wal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Chłop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– pra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ładza –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król, senior ma zapewnić porządek , pokój, sprawiedliw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tan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lachecki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uchow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ieszczańs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ażdy stan ma własne prawa i własne sadownictwo, charakterystyczne dla siebie uprawnienia polity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55450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średniowiec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981000"/>
            <a:ext cx="4752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kreślenie 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civita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luźno tłumaczone jako wspólnota obywatelska) dotyczyło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miast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siadających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amorzą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Obywatel średniowiecznego miasta musiał na stałe w nim mieszkać, pochodzić z rodziny obywateli – prawo krwi bądź się w nim urodzić – prawo zie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am samorząd wzorował się często na strukturach rzymskich – istniały trzy grupy obywateli (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atrycjat, pospólstwo i pleb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ywatelstwo miejskie - dawało cenioną w świecie feudalnym wolność osobistą i niezależnoś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republika.pl/blog_bo_3966353/7105804/sz/cxc.jpg"/>
          <p:cNvPicPr/>
          <p:nvPr/>
        </p:nvPicPr>
        <p:blipFill>
          <a:blip r:embed="rId1"/>
          <a:stretch/>
        </p:blipFill>
        <p:spPr>
          <a:xfrm>
            <a:off x="5359320" y="476280"/>
            <a:ext cx="3808440" cy="2517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 Zamknij "/>
          <p:cNvPicPr/>
          <p:nvPr/>
        </p:nvPicPr>
        <p:blipFill>
          <a:blip r:embed="rId2"/>
          <a:stretch/>
        </p:blipFill>
        <p:spPr>
          <a:xfrm>
            <a:off x="4788000" y="314172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Symbol zastępczy zawartości 3" descr=""/>
          <p:cNvPicPr/>
          <p:nvPr/>
        </p:nvPicPr>
        <p:blipFill>
          <a:blip r:embed="rId1"/>
          <a:stretch/>
        </p:blipFill>
        <p:spPr>
          <a:xfrm>
            <a:off x="426960" y="1596960"/>
            <a:ext cx="8278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onarchia s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Hiszpania – Kortez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Anglia – Parlament: Izba Lordów, Izba Gm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Francja – Stany General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Cechy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Władza nadal w rękach monarc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Zgromadzenia parlamentarne – zapewniają poddanym współudział w rząda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190960" cy="2457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5299200" y="3933720"/>
            <a:ext cx="384336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iwona</cp:lastModifiedBy>
  <dcterms:modified xsi:type="dcterms:W3CDTF">2013-08-16T16:09:50Z</dcterms:modified>
  <cp:revision>43</cp:revision>
  <dc:subject>szablon prezentacji KPW</dc:subject>
  <dc:title>Zrównoważony rozwój</dc:title>
</cp:coreProperties>
</file>